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DCF0-9B55-49C6-A000-436A6B76A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0704-1879-4619-8B2C-EFDBFACB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B69E-0995-47DC-85C5-3F6BE8818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8F75-0F15-48D3-8CC4-680A90EF7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93EF-D294-4DB0-8F0C-1CA78A0B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9053-BE8A-4120-BDAD-53457350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10B7-ABD1-4818-8944-CAA3F4DA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DB6C-1538-413E-A287-11C74CC6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8409-9EDB-4220-B400-DB9EC0EC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0F43-C5EC-431E-96E1-E1889335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0678-64A0-4CA8-8E9A-3518C433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B6A0-7A24-4123-8483-9B623C89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E7B0-1C31-426D-A503-10F70652F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ait de gradien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Times New Roman"/>
              </a:rPr>
              <a:t>M 8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1522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ite venir  dans la barre d'outil et sélectionner " calque 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cette liste venir sur" ajouter un masque de fusion 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is " tout masquer 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12193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tte manip à pour effet de rajouter un masque sur l'image que vous avez dupliquée av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 cette image la couleur réapparaî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95560" y="90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5915160" cy="4430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638680" y="4648320"/>
            <a:ext cx="182880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0880" y="609480"/>
            <a:ext cx="8534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ite venir dans la barre d'outil à gauche " outil pot de peinture 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is clique droit de la sou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 cliquer sur outil pot de peinture. À ce moment là votre curseur de transforme en un pot de pein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rez-vous que la couleur soit blanche. Si ce n'est pas le cas il suffit de la sélectionn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971800"/>
            <a:ext cx="853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fr-FR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is cliquer sur votre image  " point clignotant 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gradient de couleur est devenu un gradient noir et bla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ardez la différence du masque de f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fr-CH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nt le traitement, il est complètement noir et après il y a une partie blanche et n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4876920"/>
            <a:ext cx="838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ute cette partie blanche, c'est votre gradient de couleur qui a été traitée et la partie noire c'est la galaxie qui n'est pas trait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669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29680" cy="62499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781680" y="3657600"/>
            <a:ext cx="60984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5880" y="3657600"/>
            <a:ext cx="38124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4920" y="289404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fr-FR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is venir dans la barre d'outil " sélection " et cliquer sur " désélectionner " tout les petits points blancs disparaiss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vous souhaitez cliquer sur l'œil à gauche du calqu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us pouvez voir apparaître et disparaître les couleurs du gradient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228600"/>
            <a:ext cx="883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aits des gradients de couleurs et de luminance. Ex: Lors d'une prise d'une image et que la lune se lève vous aurez un fond de ciel un peu vert. Grâce à cette méthode il est possible de l'enlev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ès que vos 3 images sont regroupées et que les couleurs sont équilibrées il est possible de faire cette mani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25909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fr-CH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lang="fr-CH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fr-CH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faut dupliquer le cal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733920"/>
            <a:ext cx="9144000" cy="13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fr-FR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quer sur l'onglet calques et que l'image soit sélectionn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ir sur la flèche à droite et cliquer dess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la liste choisir dupliquer le cal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2888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057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943600" y="3124080"/>
            <a:ext cx="60948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3581280"/>
            <a:ext cx="1904760" cy="609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29600" y="3048120"/>
            <a:ext cx="457200" cy="533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3049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boite de dialogue s'ouv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nomm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29528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 cliquer sur OK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2819520"/>
            <a:ext cx="8763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fr-FR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fr-CH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nouveau calque c'est placer haut-dessus de votre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t dessus de ce claque il y a une bande dérou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électionner couleur / puisque c'est la couleur qui nous intér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 ce nouveau claque faite avec le clavier Ctrl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tte manip à pour effet d'inverser les coul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quer sur le bouton à côté / opacit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c le curseur diminuer l'opacité à 5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tte manip à pour effet de mettre votre image en noir et bla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81080" y="81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444160" cy="6311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19920" y="3352680"/>
            <a:ext cx="137160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0120" y="3276720"/>
            <a:ext cx="60948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95560" y="90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2968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3049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fois cette manip fai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faut venir dans la barre d'outils et cliquer sur " sélection 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 venir sur plage de coul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51080" y="9478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62004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22860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fr-FR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cette boîte nous allons déterminer le gradient de couleur en utilisant le </a:t>
            </a:r>
            <a:r>
              <a:rPr b="1" lang="fr-CH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seu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se importante, tout ce qui est blanc sera à traiter et tout ce qui est noir ne sera pas trai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ès que vous pensez que le réglage est juste cliquer " OK 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cette manip votre image va se remplire de petits points clignotants. Sur cette zone le traitement sera effectué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14360" y="9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59054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309680" y="9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215200" cy="61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16:49:09Z</dcterms:created>
  <dc:creator>Famille</dc:creator>
  <dc:description/>
  <dc:language>en-US</dc:language>
  <cp:lastModifiedBy>Famille</cp:lastModifiedBy>
  <dcterms:modified xsi:type="dcterms:W3CDTF">2009-02-08T17:28:43Z</dcterms:modified>
  <cp:revision>16</cp:revision>
  <dc:subject/>
  <dc:title>Retrait de gradients </dc:title>
</cp:coreProperties>
</file>